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AAF-C583-4809-8E22-1AE7EAA9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192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546-11FD-4834-847C-9543156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04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DA2-11BD-4698-8D88-12062F08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28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92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28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92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E75-A92A-4398-A4E3-A6AB5884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13F5-6548-48F8-A3F7-FA518A8E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5CA4-D8F6-434A-A60F-454141D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BE4C-A94D-4367-9BC8-DFC98625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189-C0FD-4B7F-9ECE-5062978F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B8D-53EE-488A-AC18-BB41663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3514-3F9D-43B4-BF6B-C29AD8A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E0F-E81F-4538-8BEA-67375B4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8D4-37D5-458B-922E-6D47DA88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04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7BC-3E4E-4FCD-AB16-626FFEF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554-E459-4B64-9B3F-B2F1823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8192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1C5-5AA6-4503-AAFA-6D6E988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04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C63C-A64E-46F0-B630-D1B8055C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428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1920" y="14126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428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1920" y="3819240"/>
            <a:ext cx="2588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1E7-0898-49A6-91DE-6D42EF19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482-2F95-4833-8F95-6E8B0FB5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49E-A0BA-473B-9D58-47A258DD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134-D31C-46B1-BDBA-2910464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860-43E2-4C40-BCE4-ED5E087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7A5-2D74-418A-8269-ED5F08E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040" y="38192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698-F89D-4ACA-9CDC-58B5349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040" y="1412640"/>
            <a:ext cx="39222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19240"/>
            <a:ext cx="803772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802-B5F3-40F7-8D29-0EC8592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AutoShape 3"/>
          <p:cNvSpPr/>
          <p:nvPr/>
        </p:nvSpPr>
        <p:spPr>
          <a:xfrm rot="10800000">
            <a:off x="900000" y="126756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3B6-3912-45BA-AAC3-8B433D53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  <a:cs typeface="B Nazanin"/>
              </a:rPr>
              <a:t>فصل </a:t>
            </a:r>
            <a:r>
              <a:rPr b="0" lang="fa-IR" sz="3800" spc="-1" strike="noStrike">
                <a:solidFill>
                  <a:srgbClr val="000000"/>
                </a:solidFill>
                <a:latin typeface="Verdana"/>
                <a:cs typeface="B Nazanin"/>
              </a:rPr>
              <a:t>دو</a:t>
            </a:r>
            <a:r>
              <a:rPr b="0" lang="ar-SA" sz="3800" spc="-1" strike="noStrike">
                <a:solidFill>
                  <a:srgbClr val="000000"/>
                </a:solidFill>
                <a:latin typeface="Verdana"/>
                <a:cs typeface="B Nazanin"/>
              </a:rPr>
              <a:t>ازدهم: نمودارهاي سه‌بعدي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684360" y="0"/>
            <a:ext cx="7488000" cy="5462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484360" y="5157000"/>
            <a:ext cx="446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336699"/>
                </a:solidFill>
                <a:latin typeface="Verdana"/>
                <a:cs typeface="B Nazanin"/>
              </a:rPr>
              <a:t>کلاس آموزشی</a:t>
            </a:r>
            <a:r>
              <a:rPr b="0" lang="fa-IR" sz="4400" spc="-1" strike="noStrike">
                <a:solidFill>
                  <a:srgbClr val="000000"/>
                </a:solidFill>
                <a:latin typeface="Verdana"/>
                <a:ea typeface="B Nazan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211A-5F88-4274-BB1D-136130FD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560" y="404280"/>
            <a:ext cx="3313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Verdana"/>
              </a:rPr>
              <a:t>فصل دوازدهم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Verdana"/>
              </a:rPr>
              <a:t>نمودارهای سه‌بعد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1۱-4</a:t>
            </a: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- نمودارهاي رويه-ادام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ding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با استفاده از تابع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ding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مي‌توان نوع سايه‌‌رنگ نمودار را تعيين کرد. اين تابع بايد پس از يکي از توابع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rf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بيايد و با يکي از سُه پارامتر زير قابل فراخواني است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Verdana"/>
              </a:rPr>
              <a:t>shading flat</a:t>
            </a:r>
            <a:r>
              <a:rPr b="0" lang="en-US" sz="2100" spc="-1" strike="noStrike">
                <a:solidFill>
                  <a:srgbClr val="99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Verdana"/>
              </a:rPr>
              <a:t>shading inter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Verdana"/>
              </a:rPr>
              <a:t>shading face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1۱-4</a:t>
            </a: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- نمودارهاي رويه-ادام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lormap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با استفاده از اين تابع مي‌توان رنگهاي بکار برده شده براي ترسيم نمودار رويه را تعريف کرد تنها پارامتر مورد نياز مي‌تواند يکي از ثابتهاي زير باشد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sv, cool , hot, prism, gr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11-5</a:t>
            </a: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- چرخش دوربین در فضای سه بعد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با استفاده از تاب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orbit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 می‌توان پس از رسم نمودار سه‌بعدی، زاویه دید دوربین نسبت به شیء را تغییر دا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orbit(theta,ph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ta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: زاویه چرخش افق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i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: زاویه چرخش عمود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و یا می‌توانید از این فرم تابع استفاده کنی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orbit(theta,ph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محور چرخ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آرگومان سوم محوری است که چرخش حول آن انجام می‌شود را مشخص می‌کند که به صورت پیش‌فرض محو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‌ است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11-5</a:t>
            </a: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- چرخش دوربین در فضای سه بعدی-ادامه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مثال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(peak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is vis3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is 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=1:3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orbit(2,0,'data'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11-6</a:t>
            </a: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- تعیین موقعیت دوربی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به منظور تعیین موقعیت دوربین می‌توان از تاب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pos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 استفاده کر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pos([x,y,z]) 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آرگومان ورودی این تابع موقعیت دوربین را در فضای سه‌بعدی مشخص می‌کند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(peak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is vis3d 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x = -200:5: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pos([x,5,10]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11-7</a:t>
            </a:r>
            <a:r>
              <a:rPr b="1" lang="fa-IR" sz="2400" spc="-1" strike="noStrike">
                <a:solidFill>
                  <a:srgbClr val="000000"/>
                </a:solidFill>
                <a:latin typeface="Verdana"/>
              </a:rPr>
              <a:t>- نمایش میله‌رن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با استفاده از تاب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bar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 می‌توان پس از نمایش نمودار، رنگهای بکار برده شده در آن را بصورت یک میله‌رنگ در کنار نمودار نمایش دا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&gt; surf(peak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&gt; color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اعداد نمایش داده شده در کنار میله‌رنگ مقداری را که هر رنگ به آن اشاره می‌کند(به صورت پیش‌فرض مقدا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) را نمایش می‌ده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8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نمودارهاي تراز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our , contour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نمودارهاي تراز خطوط و منحني‌هاي بسته‌اي مي‌باشند که براي نمايش ارتفاع‌هاي مختلف يک نمودار سه‌بعدي، در فضاي دوبعدي يا سه‌بعدي بکار برده مي‌شوند. در اين نمودارها، نواحي هم‌ارتفاع توسط خطوطي به يکديگر متصل مي‌شوند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نحوه استفاده از تو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our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our3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نيز دقيقا شبيه ت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h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ست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c,h] = contour(peaks); clabel(c,h), colorb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1-9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ت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o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این تابع داده‌های مربوط به یک نمودار سه‌بعدی را در فضای دو‌بعدی رسم می‌کند و برای نمایش ارتفاع(مقدا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) از تغییرات رنگ استفاده می‌نماید. نتیجه حاصل از این تابع ، مشابه تصویر از بالای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f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‌ است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۱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&gt;pcolor(peak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۲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=tril(ones(10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s=[t,fliplr(t)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ss=[flipud(ts);ts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color(tss); colormap(gray(2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1-9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اجراي برنامه‌هاي نمايشي متلب در زمينه ترسيم سه‌بعد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mo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هاي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ics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در متلب راهنماي بسيار خوبي براي آموزش قابليتهاي گرافيکي متلب مي‌باشد. اين برنامه‌ها از منوي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rt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متلب در شاخه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mo-&gt; Graphics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در دسترسن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5229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۱۱-1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خمهاي فضايي- ت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ot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با استفاده از تابع </a:t>
            </a:r>
            <a:r>
              <a:rPr b="0" lang="en-US" sz="2200" spc="-1" strike="noStrike">
                <a:solidFill>
                  <a:srgbClr val="996600"/>
                </a:solidFill>
                <a:latin typeface="Verdana"/>
              </a:rPr>
              <a:t>plot3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در متلب مي‌توان يک منحني را در فضاي سه‌بعدي ترسيم کرد. روش استفاده از اين تابع بسيار شبيه تابع </a:t>
            </a:r>
            <a:r>
              <a:rPr b="0" lang="en-US" sz="2200" spc="-1" strike="noStrike">
                <a:solidFill>
                  <a:srgbClr val="996600"/>
                </a:solidFill>
                <a:latin typeface="Verdana"/>
              </a:rPr>
              <a:t>plot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است. جز اينکه بازاي هر منحني به سه بردار هم ‌طول نياز است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مثال: رسم يک فنر با شعا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برابر با يک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=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= sin(t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=cos(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1979640" y="386064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0600" y="1521000"/>
            <a:ext cx="78548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۱۱-1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خمهاي فضايي-ادام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&gt;&gt;t=0: pi/50:10*p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&gt;&gt;plot3(sin(t) , cos(t) , t); xlabel(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sin(x)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); ylabel(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cos(x)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); zlabel(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x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594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2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تغيير زاويه دي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با استفاده از دکمه فشاري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tate 3D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ر روي هر پنجره شکل متلب و يا با استفاده از دستو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ي توان زاويه ديد را تغيير داد. همچنين در منوي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ا استفاده از زيرمنوهاي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mera Motion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ي توان در فضاي سه‌بعدي حرکت کر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شکل کلي استفاده از دستو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صورت زير است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([az , el]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که در اين رابطه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بترتيب زاويه دوربين نسبت به صفحه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و بخش منفي محور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ست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1676520"/>
            <a:ext cx="82803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3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نمودارهاي شبکه‌اي: تو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h, meshc, mesh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با استفاده از اين توابع مي‌توان سطوح شبکه‌اي(يا توري) ايجاد کرد.شکل کلي استفاده از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صورت زيراست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(x,y,z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که در اين رابطه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تابعي دو متغيره از متغيرهاي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ي‌باشد. بنابراين لازم است که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يک ماتريس دو بعدي باشد که تعداد سطرهاي آن برابر با تعداد عناص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و تعداد ستونهايش برابر با تعداد عناص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اشد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ايد بردار باشند اگرچه مي توانند ماتريسهايي هم‌بعد نيز باشند بدينصورت که بردا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ه تعداد عناصر بردا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صورت سطري تکرار شود و بردا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ه تعداد عناصر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صورت ستوني تکرار گردد. که در اينصورت دو ماتريس هم‌بعد خواهيم داشت.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grid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ي تواند اين عمل را انجام دهد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_new,y_new]=meshgrid(x,y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c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علاوه بر نمودار شبکه‌اي، نمودارهاي تراز را نيز رسم مي‌کند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z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ديواره‌هايي را در پايين نمودار به سمت صفحه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-y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رسم مي‌کن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77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3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نمودارهاي شبکه‌اي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دامه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aks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يکي از توابع متلب است که يک مدل رياضي از پيش‌تعريف شده را ايجاد مي‌کند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[x ,y,z]= peaks(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mesh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20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78534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3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نمودارهاي شبکه‌اي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دامه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0" lang="fa-IR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Verdana"/>
              </a:rPr>
              <a:t>: رسم يک تابع دو بعدي به فرمول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=sin(r)/r</a:t>
            </a:r>
            <a:r>
              <a:rPr b="0" lang="fa-IR" sz="2000" spc="-1" strike="noStrike">
                <a:solidFill>
                  <a:srgbClr val="000000"/>
                </a:solidFill>
                <a:latin typeface="Verdana"/>
              </a:rPr>
              <a:t> که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=sqrt(X^2 + Y^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x=-7.5: 0.5: 7.5; y=x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[x_new,y_new]=meshgrid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r = sqrt(x_new.^2 + y_new.^2) + ep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z=sin(r) ./ r; mesh(x_new , y_new , z) </a:t>
            </a:r>
            <a:r>
              <a:rPr b="0" lang="fa-IR" sz="2000" spc="-1" strike="noStrike">
                <a:solidFill>
                  <a:srgbClr val="006600"/>
                </a:solidFill>
                <a:latin typeface="Verdana"/>
              </a:rPr>
              <a:t>يا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mesh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338328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37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Verdana"/>
              </a:rPr>
              <a:t>1۱-3</a:t>
            </a:r>
            <a:r>
              <a:rPr b="0" lang="fa-IR" sz="3400" spc="-1" strike="noStrike">
                <a:solidFill>
                  <a:srgbClr val="000000"/>
                </a:solidFill>
                <a:latin typeface="Verdana"/>
              </a:rPr>
              <a:t>-نمودارهاي شبکه‌اي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3400" spc="-1" strike="noStrike">
                <a:solidFill>
                  <a:srgbClr val="000000"/>
                </a:solidFill>
                <a:latin typeface="Verdana"/>
              </a:rPr>
              <a:t> ادامه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به صورت پیش‌فرض متلب نقاطی از نمودار سه‌بعدی که پشت نقاط جلویی قرار گرفته‌اند را مخفی می‌کند. با استفاده از تابع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dden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می‌توان این رفتار را تغییر داد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&gt;hidden o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&gt; hidden 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&gt; hid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676160"/>
            <a:ext cx="835344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1۱-4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نمودارهاي رويه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rf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و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rfl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rf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فاوت نمودارهاي رويه با نمودارهاي شبکه‌اي آن است که در اينجا بجاي خطوط شبکه‌اي، وصله‌ها يا فواصل بين شبکه‌ها ترسيم مي‌گرد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f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دقيقا مانند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بکار برده مي‌شو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fl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علاوه بر تواناييهاي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f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ي‌تواند خصوصيات نوردهي شيء سه‌بعدي را نيز تنظيم کند. از قبيل جهت منبع نوري و خصوصيات انعکاسي شي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fc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مانند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hc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 عمل مي‌کن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5:44:36Z</dcterms:created>
  <dc:creator>Tabibi</dc:creator>
  <dc:description/>
  <dc:language>en-US</dc:language>
  <cp:lastModifiedBy>Abbas Tabibi</cp:lastModifiedBy>
  <dcterms:modified xsi:type="dcterms:W3CDTF">2009-01-12T05:35:55Z</dcterms:modified>
  <cp:revision>636</cp:revision>
  <dc:subject/>
  <dc:title>MATLAB    جلسه او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