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DD67-5A94-41BB-9193-10729AC5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483920"/>
            <a:ext cx="80010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853080"/>
            <a:ext cx="80010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BCB6-CA6B-466B-8A49-436E6A9C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483920"/>
            <a:ext cx="3904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483920"/>
            <a:ext cx="3904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853080"/>
            <a:ext cx="3904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853080"/>
            <a:ext cx="3904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261-77D0-4295-B804-FFFEC4E6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483920"/>
            <a:ext cx="257616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483920"/>
            <a:ext cx="257616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483920"/>
            <a:ext cx="257616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853080"/>
            <a:ext cx="257616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853080"/>
            <a:ext cx="257616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853080"/>
            <a:ext cx="257616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AC9-2DED-404B-AE6A-719C0533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3AA1-21BB-421C-9CF4-33F672F7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483920"/>
            <a:ext cx="80010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223E-5FE8-4857-AF78-9B55E838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483920"/>
            <a:ext cx="8001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0F05-0CB9-4677-886D-C9A64342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483920"/>
            <a:ext cx="3904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483920"/>
            <a:ext cx="3904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7F3D-B8DE-4F56-8370-67F8F400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9403-6722-4A54-9B18-9313D532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20C8-E6E9-4606-AF9C-54287400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483920"/>
            <a:ext cx="3904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483920"/>
            <a:ext cx="3904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853080"/>
            <a:ext cx="3904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80EB-BB8B-4199-9044-B1359EB7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483920"/>
            <a:ext cx="80010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ED2-DE6A-48CF-BD5B-C8E871A6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483920"/>
            <a:ext cx="3904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483920"/>
            <a:ext cx="3904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853080"/>
            <a:ext cx="3904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9DF0-CB1F-4CAC-A024-BCEFB6CF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483920"/>
            <a:ext cx="3904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483920"/>
            <a:ext cx="3904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853080"/>
            <a:ext cx="80010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2E65-3FF8-4D47-8160-FFE31CAD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483920"/>
            <a:ext cx="80010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853080"/>
            <a:ext cx="80010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3719-A33C-4835-90FC-39E50503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483920"/>
            <a:ext cx="3904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483920"/>
            <a:ext cx="3904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853080"/>
            <a:ext cx="3904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853080"/>
            <a:ext cx="3904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6A75-7BB2-42B5-BB74-8A4C092D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483920"/>
            <a:ext cx="257616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483920"/>
            <a:ext cx="257616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483920"/>
            <a:ext cx="257616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853080"/>
            <a:ext cx="257616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853080"/>
            <a:ext cx="257616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853080"/>
            <a:ext cx="257616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CF9F-2AE6-452E-9462-24357717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483920"/>
            <a:ext cx="8001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AB2-DBB3-40AA-9303-44D91FBD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483920"/>
            <a:ext cx="3904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483920"/>
            <a:ext cx="3904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CC54-FC4F-4D97-81F7-25879033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B9F-097E-4796-822A-43CE75B3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AD7B-71A0-4034-A4B9-3BDABAF9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483920"/>
            <a:ext cx="3904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483920"/>
            <a:ext cx="3904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853080"/>
            <a:ext cx="3904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61B-0B44-4593-9598-D0BFE75A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483920"/>
            <a:ext cx="3904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483920"/>
            <a:ext cx="3904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853080"/>
            <a:ext cx="3904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9DB-D5C6-45C1-8184-728AA7A6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483920"/>
            <a:ext cx="3904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483920"/>
            <a:ext cx="3904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853080"/>
            <a:ext cx="80010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CCD-6867-425F-AFB3-EF506C03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66280" y="1483920"/>
            <a:ext cx="8001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AutoShape 3"/>
          <p:cNvSpPr/>
          <p:nvPr/>
        </p:nvSpPr>
        <p:spPr>
          <a:xfrm rot="10800000">
            <a:off x="900000" y="126756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10D4-1214-45D8-A4AD-50A73C278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1120680" y="12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Verdana"/>
                <a:cs typeface="B Nazanin"/>
              </a:rPr>
              <a:t>فصل </a:t>
            </a:r>
            <a:r>
              <a:rPr b="0" lang="fa-IR" sz="3800" spc="-1" strike="noStrike">
                <a:solidFill>
                  <a:srgbClr val="000000"/>
                </a:solidFill>
                <a:latin typeface="Verdana"/>
                <a:cs typeface="B Nazanin"/>
              </a:rPr>
              <a:t>نهم</a:t>
            </a:r>
            <a:r>
              <a:rPr b="0" lang="ar-SA" sz="3800" spc="-1" strike="noStrike">
                <a:solidFill>
                  <a:srgbClr val="000000"/>
                </a:solidFill>
                <a:latin typeface="Verdana"/>
                <a:ea typeface="B Nazanin"/>
              </a:rPr>
              <a:t>: نمودارهاي دوبعدي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1187280" y="404640"/>
            <a:ext cx="6785280" cy="4950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2484360" y="5157000"/>
            <a:ext cx="446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336699"/>
                </a:solidFill>
                <a:latin typeface="Verdana"/>
                <a:cs typeface="B Nazanin"/>
              </a:rPr>
              <a:t>کلاس آموزشی</a:t>
            </a:r>
            <a:r>
              <a:rPr b="0" lang="fa-IR" sz="4400" spc="-1" strike="noStrike">
                <a:solidFill>
                  <a:srgbClr val="000000"/>
                </a:solidFill>
                <a:latin typeface="Verdana"/>
                <a:ea typeface="B Nazani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566280" y="1483920"/>
            <a:ext cx="8001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DC3E-4F8E-4704-9232-E65B871E6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58560" y="404280"/>
            <a:ext cx="33130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6600"/>
                </a:solidFill>
                <a:latin typeface="Verdana"/>
              </a:rPr>
              <a:t>فصل نهم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6600"/>
                </a:solidFill>
                <a:latin typeface="Verdana"/>
              </a:rPr>
              <a:t>نمودارهای دو بعد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9-6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- افزودن متن به نمودا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996600"/>
                </a:solidFill>
                <a:latin typeface="Verdana"/>
              </a:rPr>
              <a:t> 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با استفاده از توابع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text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و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gtext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مي‌توان متني را به نمودار اضافه کرد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&gt;&gt; text(x,y,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lang="fa-IR" sz="2600" spc="-1" strike="noStrike">
                <a:solidFill>
                  <a:srgbClr val="cc0000"/>
                </a:solidFill>
                <a:latin typeface="Verdana"/>
              </a:rPr>
              <a:t>رشته متني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&gt;&gt; gtext(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‘</a:t>
            </a:r>
            <a:r>
              <a:rPr b="0" lang="fa-IR" sz="2600" spc="-1" strike="noStrike">
                <a:solidFill>
                  <a:srgbClr val="cc0000"/>
                </a:solidFill>
                <a:latin typeface="Verdana"/>
              </a:rPr>
              <a:t>رشته متني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دستور اخير اجازه مي‌دهد که ناحيه قرار گيري رشته متني را بتوان با ماوس انتخاب کرد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9-7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- افزودن راهنماي علائم: دستور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lege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مثال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x=linspace(0,2*pi,30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y=sin(x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z=cos(x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plot(x,y,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g-.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b-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legend(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sin(x)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cos(x)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title(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Sin(x) and Cos(x) curves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66640" y="1484280"/>
            <a:ext cx="8002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9-8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- افزودن راهنماي علائم: دستور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legen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مثال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ادامه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Mfasl9_3"/>
          <p:cNvPicPr/>
          <p:nvPr/>
        </p:nvPicPr>
        <p:blipFill>
          <a:blip r:embed="rId1"/>
          <a:stretch/>
        </p:blipFill>
        <p:spPr>
          <a:xfrm>
            <a:off x="1116000" y="1989000"/>
            <a:ext cx="5688000" cy="39434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84200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9-9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-دستور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ax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با استفاده از اين دستور مي‌توان دامنه ترسيم را تغيير داد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axis([xmin,xmax,ymin,ymax,zmin,zmax]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نمودار در دامنه</a:t>
            </a:r>
            <a:r>
              <a:rPr b="0" lang="fa-IR" sz="2600" spc="-1" strike="noStrike">
                <a:solidFill>
                  <a:srgbClr val="9966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xmin</a:t>
            </a:r>
            <a:r>
              <a:rPr b="0" lang="fa-IR" sz="2600" spc="-1" strike="noStrike">
                <a:solidFill>
                  <a:srgbClr val="996600"/>
                </a:solidFill>
                <a:latin typeface="Verdana"/>
              </a:rPr>
              <a:t> 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تا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xmax</a:t>
            </a:r>
            <a:r>
              <a:rPr b="0" lang="fa-IR" sz="2600" spc="-1" strike="noStrike">
                <a:solidFill>
                  <a:srgbClr val="996600"/>
                </a:solidFill>
                <a:latin typeface="Verdana"/>
              </a:rPr>
              <a:t> 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،</a:t>
            </a:r>
            <a:r>
              <a:rPr b="0" lang="fa-IR" sz="2600" spc="-1" strike="noStrike">
                <a:solidFill>
                  <a:srgbClr val="9966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ymin</a:t>
            </a:r>
            <a:r>
              <a:rPr b="0" lang="fa-IR" sz="2600" spc="-1" strike="noStrike">
                <a:solidFill>
                  <a:srgbClr val="996600"/>
                </a:solidFill>
                <a:latin typeface="Verdana"/>
              </a:rPr>
              <a:t> 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تا</a:t>
            </a:r>
            <a:r>
              <a:rPr b="0" lang="fa-IR" sz="2600" spc="-1" strike="noStrike">
                <a:solidFill>
                  <a:srgbClr val="9966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ymax</a:t>
            </a:r>
            <a:r>
              <a:rPr b="0" lang="fa-IR" sz="2600" spc="-1" strike="noStrike">
                <a:solidFill>
                  <a:srgbClr val="996600"/>
                </a:solidFill>
                <a:latin typeface="Verdana"/>
              </a:rPr>
              <a:t> 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و... ترسيم</a:t>
            </a:r>
            <a:r>
              <a:rPr b="0" lang="fa-IR" sz="2600" spc="-1" strike="noStrike">
                <a:solidFill>
                  <a:srgbClr val="996600"/>
                </a:solidFill>
                <a:latin typeface="Verdana"/>
              </a:rPr>
              <a:t> 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مي‌گردد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996600"/>
                </a:solidFill>
                <a:latin typeface="Verdana"/>
              </a:rPr>
              <a:t>--------------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axis off</a:t>
            </a:r>
            <a:r>
              <a:rPr b="0" lang="en-US" sz="2600" spc="-1" strike="noStrike">
                <a:solidFill>
                  <a:srgbClr val="996600"/>
                </a:solidFill>
                <a:latin typeface="Verdana"/>
              </a:rPr>
              <a:t>	</a:t>
            </a:r>
            <a:r>
              <a:rPr b="0" lang="fa-IR" sz="2600" spc="-1" strike="noStrike">
                <a:solidFill>
                  <a:srgbClr val="996600"/>
                </a:solidFill>
                <a:latin typeface="Verdana"/>
              </a:rPr>
              <a:t>محورهاي مختصات را حذف مي‌کن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axis on</a:t>
            </a:r>
            <a:r>
              <a:rPr b="0" lang="fa-IR" sz="2600" spc="-1" strike="noStrike">
                <a:solidFill>
                  <a:srgbClr val="996600"/>
                </a:solidFill>
                <a:latin typeface="Verdana"/>
              </a:rPr>
              <a:t>	</a:t>
            </a:r>
            <a:r>
              <a:rPr b="0" lang="fa-IR" sz="2600" spc="-1" strike="noStrike">
                <a:solidFill>
                  <a:srgbClr val="996600"/>
                </a:solidFill>
                <a:latin typeface="Verdana"/>
              </a:rPr>
              <a:t>محورهاي مختصات را ترسيم مي‌کن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9-10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- ثابت نگهداشتن نمودار: دستور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hol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بصورت پيش‌فرض متلب هر نمودار جديد را جايگزين نمودار قبلي ميکند، اگر بخواهيم بدون پاک شدن نمودار فعلي نمودار جديدي اضافه کنيم بايد از دستور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hold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استفاده نماييم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hold o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فعا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hold off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غير فعا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hold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تغيير حال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9-11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- ساير دستورا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clf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محتويات پنجره شکل جاري را پاک مي‌کن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cl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600" spc="-1" strike="noStrike">
                <a:solidFill>
                  <a:srgbClr val="996600"/>
                </a:solidFill>
                <a:latin typeface="Verdana"/>
              </a:rPr>
              <a:t> 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محتويات نمودار جاري را پاک ميکن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zoom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حالت زوم را فعال يا غير فعال مي‌کن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ginpu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براي گرفتن مختصات يک يا چند نقطه از نمودار با استفاده از ماوس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676160"/>
            <a:ext cx="842472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9-12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- ساير نمودارهاي دوبعد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علاوه  بر</a:t>
            </a:r>
            <a:r>
              <a:rPr b="0" lang="fa-IR" sz="2600" spc="-1" strike="noStrike">
                <a:solidFill>
                  <a:srgbClr val="9966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plot</a:t>
            </a:r>
            <a:r>
              <a:rPr b="0" lang="fa-IR" sz="2600" spc="-1" strike="noStrike">
                <a:solidFill>
                  <a:srgbClr val="996600"/>
                </a:solidFill>
                <a:latin typeface="Verdana"/>
              </a:rPr>
              <a:t> 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دستورات ترسيم نمودارهاي دوبعدي ديگري نيز در متلب وجود دارد که عبارتند از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polar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ترسيم نمودار در مختصات قطبي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fill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ترسيم نواحي بسته دو بعدي(چندضلعي‌ها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semilogx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semilogy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loglog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ترسيم نمودار در مختصات لگاريتمي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stairs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ترسيم نموار پله‌اي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his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ترسيم نمودار فراواني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bar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ترسيم نمودار ميله‌اي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845964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9-1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-تابع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شکل کلي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plot (x1,y1,</a:t>
            </a:r>
            <a:r>
              <a:rPr b="0" lang="en-US" sz="21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c1s1</a:t>
            </a:r>
            <a:r>
              <a:rPr b="0" lang="en-US" sz="21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,x2,y2,</a:t>
            </a:r>
            <a:r>
              <a:rPr b="0" lang="en-US" sz="21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c2s2,x3,y3,</a:t>
            </a:r>
            <a:r>
              <a:rPr b="0" lang="en-US" sz="21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c3s3</a:t>
            </a:r>
            <a:r>
              <a:rPr b="0" lang="en-US" sz="21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cc0000"/>
                </a:solidFill>
                <a:latin typeface="Arial"/>
              </a:rPr>
              <a:t>…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در اين رابطه، 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sn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 مي‌تواند هر يک از کاراکترهاي زير باشد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. , o , x , + , - , * , -. , -- , penta , hex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و 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cn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 نيز مي‌تواند يکي از رنگهاي زير باش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y , m , c , r , g , b , w , 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که  به ترتيب معرف رنگهاي زرد، سرخابي، فيروزه‌اي، قرمز، سبز، آبي، سفيد و سياه مي‌باش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49160" y="1590840"/>
            <a:ext cx="7629840" cy="20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9-1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- تابع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ot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ادامه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مثال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&gt;&gt; x= linspace(0,2*pi , 30); y= sin(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&gt;&gt; plot(x,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Mfasl9_1"/>
          <p:cNvPicPr/>
          <p:nvPr/>
        </p:nvPicPr>
        <p:blipFill>
          <a:blip r:embed="rId1"/>
          <a:stretch/>
        </p:blipFill>
        <p:spPr>
          <a:xfrm>
            <a:off x="2843280" y="2924280"/>
            <a:ext cx="4968720" cy="3132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594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9-2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- رسم چند نمودار مجزا در يک پنجره شکل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996600"/>
                </a:solidFill>
                <a:latin typeface="Verdana"/>
              </a:rPr>
              <a:t>بمنظور تقسيم پنجره شکل به چند بخش مي‌توان از تابع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bplot</a:t>
            </a:r>
            <a:r>
              <a:rPr b="0" lang="fa-IR" sz="2200" spc="-1" strike="noStrike">
                <a:solidFill>
                  <a:srgbClr val="996600"/>
                </a:solidFill>
                <a:latin typeface="Verdana"/>
              </a:rPr>
              <a:t> استفاده کرد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شکل کلي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bplot( m ,n , p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996600"/>
                </a:solidFill>
                <a:latin typeface="Verdana"/>
              </a:rPr>
              <a:t> در اين رابطه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fa-IR" sz="2200" spc="-1" strike="noStrike">
                <a:solidFill>
                  <a:srgbClr val="996600"/>
                </a:solidFill>
                <a:latin typeface="Verdana"/>
              </a:rPr>
              <a:t> تعداد بخشهاي افقي،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996600"/>
                </a:solidFill>
                <a:latin typeface="Verdana"/>
              </a:rPr>
              <a:t> </a:t>
            </a:r>
            <a:r>
              <a:rPr b="0" lang="fa-IR" sz="2200" spc="-1" strike="noStrike">
                <a:solidFill>
                  <a:srgbClr val="996600"/>
                </a:solidFill>
                <a:latin typeface="Verdana"/>
              </a:rPr>
              <a:t> تعداد بخشهاي عمودي و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fa-IR" sz="2200" spc="-1" strike="noStrike">
                <a:solidFill>
                  <a:srgbClr val="996600"/>
                </a:solidFill>
                <a:latin typeface="Verdana"/>
              </a:rPr>
              <a:t> شماره بخش جاري است. هر دستور ترسيمي بعداز اين دستور در مکان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fa-IR" sz="2200" spc="-1" strike="noStrike">
                <a:solidFill>
                  <a:srgbClr val="996600"/>
                </a:solidFill>
                <a:latin typeface="Verdana"/>
              </a:rPr>
              <a:t> ام اعمال خواهد شد. خانه‌ها بصورت ستوني شمارش مي‌شوند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996600"/>
                </a:solidFill>
                <a:latin typeface="Verdana"/>
              </a:rPr>
              <a:t>واضح است که مقدار </a:t>
            </a:r>
            <a:r>
              <a:rPr b="0" lang="en-US" sz="2200" spc="-1" strike="noStrike">
                <a:solidFill>
                  <a:srgbClr val="9966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fa-IR" sz="2200" spc="-1" strike="noStrike">
                <a:solidFill>
                  <a:srgbClr val="996600"/>
                </a:solidFill>
                <a:latin typeface="Verdana"/>
              </a:rPr>
              <a:t> بايد بين 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fa-IR" sz="2200" spc="-1" strike="noStrike">
                <a:solidFill>
                  <a:srgbClr val="996600"/>
                </a:solidFill>
                <a:latin typeface="Verdana"/>
              </a:rPr>
              <a:t> و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*n</a:t>
            </a:r>
            <a:r>
              <a:rPr b="0" lang="fa-IR" sz="2200" spc="-1" strike="noStrike">
                <a:solidFill>
                  <a:srgbClr val="996600"/>
                </a:solidFill>
                <a:latin typeface="Verdana"/>
              </a:rPr>
              <a:t> باشد در غير اينصورت متلب اعلان خطا مي‌کند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9-2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- رسم چند نمودار مجزا در يک پنجره شکل-ادامه</a:t>
            </a:r>
            <a:r>
              <a:rPr b="0" lang="fa-IR" sz="2100" spc="-1" strike="noStrike">
                <a:solidFill>
                  <a:srgbClr val="9966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مثال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Verdana"/>
              </a:rPr>
              <a:t>&gt;&gt; x=linspace(0,2*pi,30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Verdana"/>
              </a:rPr>
              <a:t>&gt;&gt;</a:t>
            </a:r>
            <a:r>
              <a:rPr b="0" lang="fa-IR" sz="21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6600"/>
                </a:solidFill>
                <a:latin typeface="Verdana"/>
              </a:rPr>
              <a:t>subplot(2,2,1);plot(x,sin(x)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Verdana"/>
              </a:rPr>
              <a:t>&gt;&gt;</a:t>
            </a:r>
            <a:r>
              <a:rPr b="0" lang="fa-IR" sz="21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6600"/>
                </a:solidFill>
                <a:latin typeface="Verdana"/>
              </a:rPr>
              <a:t>subplot(2,2,2);plot(x,cos(x)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Verdana"/>
              </a:rPr>
              <a:t>&gt;&gt;</a:t>
            </a:r>
            <a:r>
              <a:rPr b="0" lang="fa-IR" sz="21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6600"/>
                </a:solidFill>
                <a:latin typeface="Verdana"/>
              </a:rPr>
              <a:t>subplot(2,2,3);plot(x,tan(x)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Verdana"/>
              </a:rPr>
              <a:t>&gt;&gt;</a:t>
            </a:r>
            <a:r>
              <a:rPr b="0" lang="fa-IR" sz="21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6600"/>
                </a:solidFill>
                <a:latin typeface="Verdana"/>
              </a:rPr>
              <a:t>subplot(2,2,4);plot(x,sin(x)+cos(x)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7740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9-2</a:t>
            </a: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- رسم چند نمودار مجزا در يک پنجره شکل-ادامه</a:t>
            </a:r>
            <a:r>
              <a:rPr b="0" lang="fa-IR" sz="2200" spc="-1" strike="noStrike">
                <a:solidFill>
                  <a:srgbClr val="9966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Verdana"/>
              </a:rPr>
              <a:t>مثال:-ادامه-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12" descr="Mfasl9_2"/>
          <p:cNvPicPr/>
          <p:nvPr/>
        </p:nvPicPr>
        <p:blipFill>
          <a:blip r:embed="rId1"/>
          <a:stretch/>
        </p:blipFill>
        <p:spPr>
          <a:xfrm>
            <a:off x="826920" y="2060640"/>
            <a:ext cx="5040360" cy="3779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777240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9-3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- برچسب گذاري محورهاي افقي و عمودي و عنوان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بمنظور برچسب‌گذاري محورها و ايجاد عنوان براي نمودار مي‌توان از توابع 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xlabel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ylabel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, 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title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 استفاده کرد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&gt;&gt; xlabel(</a:t>
            </a:r>
            <a:r>
              <a:rPr b="0" lang="en-US" sz="2100" spc="-1" strike="noStrike">
                <a:solidFill>
                  <a:srgbClr val="cc0000"/>
                </a:solidFill>
                <a:latin typeface="Arial"/>
              </a:rPr>
              <a:t>‘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fa-IR" sz="2100" spc="-1" strike="noStrike">
                <a:solidFill>
                  <a:srgbClr val="cc0000"/>
                </a:solidFill>
                <a:latin typeface="Verdana"/>
              </a:rPr>
              <a:t>يک رشته متني</a:t>
            </a:r>
            <a:r>
              <a:rPr b="0" lang="en-US" sz="2100" spc="-1" strike="noStrike">
                <a:solidFill>
                  <a:srgbClr val="cc0000"/>
                </a:solidFill>
                <a:latin typeface="Arial"/>
              </a:rPr>
              <a:t>‘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&gt;&gt; ylabel(</a:t>
            </a:r>
            <a:r>
              <a:rPr b="0" lang="en-US" sz="2100" spc="-1" strike="noStrike">
                <a:solidFill>
                  <a:srgbClr val="cc0000"/>
                </a:solidFill>
                <a:latin typeface="Arial"/>
              </a:rPr>
              <a:t>‘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fa-IR" sz="2100" spc="-1" strike="noStrike">
                <a:solidFill>
                  <a:srgbClr val="cc0000"/>
                </a:solidFill>
                <a:latin typeface="Verdana"/>
              </a:rPr>
              <a:t>يک رشته متني</a:t>
            </a:r>
            <a:r>
              <a:rPr b="0" lang="en-US" sz="2100" spc="-1" strike="noStrike">
                <a:solidFill>
                  <a:srgbClr val="cc0000"/>
                </a:solidFill>
                <a:latin typeface="Arial"/>
              </a:rPr>
              <a:t>‘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&gt;&gt; title(</a:t>
            </a:r>
            <a:r>
              <a:rPr b="0" lang="en-US" sz="2100" spc="-1" strike="noStrike">
                <a:solidFill>
                  <a:srgbClr val="cc0000"/>
                </a:solidFill>
                <a:latin typeface="Arial"/>
              </a:rPr>
              <a:t>‘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fa-IR" sz="2100" spc="-1" strike="noStrike">
                <a:solidFill>
                  <a:srgbClr val="cc0000"/>
                </a:solidFill>
                <a:latin typeface="Verdana"/>
              </a:rPr>
              <a:t>يک رشته متني</a:t>
            </a:r>
            <a:r>
              <a:rPr b="0" lang="en-US" sz="2100" spc="-1" strike="noStrike">
                <a:solidFill>
                  <a:srgbClr val="cc0000"/>
                </a:solidFill>
                <a:latin typeface="Arial"/>
              </a:rPr>
              <a:t>‘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اين دستورات بر روي آخرين نمودار ترسيم شده اعمال ميشوند بنابراين بعد از هر دستور 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plot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 يا دستور ترسيمي ديگر بلافاصله بايد از اين دستورات استفاده گردد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9-4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- رسم خطوط شبکه‌اي بر روي نمودا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بمنظور ايجاد خطوط شبکه‌اي(چهارخانه‌هاي نقطه‌چين ) بر روي يک نمودار، مي‌توان از دستور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grid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استفاده کرد. شکل کلي استفاده از دستور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grid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بصورتهاي زير است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&gt;&gt;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grid on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حالت شبکه‌اي را فعال مي‌کن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&gt;&gt;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grid off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حالت شبکه‌اي را غير فعال ميکن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&gt;&gt;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grid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حالت شبکه‌اي را از فعال به غيرفعال و از غير فعال به فعال تغيير مي‌ده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Verdana"/>
              </a:rPr>
              <a:t>عباس طبیبی-دانشگاه صنعتی اصفها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9-5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- ايجاد پنجره شکل جدي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بصورت پيش‌فرض در متلب هر نمودار جديد جايگزين نمودار قبلي در همان پنجره شکل ميگردد. در صورتيکه بخواهيم چند نمودار در پنجره‌هاي شکل جداگانه ترسيم شوند از دستور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figure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استفاده مي‌کني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&gt;&gt; figure;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اين دستور باعث مي‌شود که يک پنجره شکل جديد باز شده و نمودار بعدي در آن پنجره ترسيم گردد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05:44:36Z</dcterms:created>
  <dc:creator>Tabibi</dc:creator>
  <dc:description/>
  <dc:language>en-US</dc:language>
  <cp:lastModifiedBy>Abbas Tabibi</cp:lastModifiedBy>
  <dcterms:modified xsi:type="dcterms:W3CDTF">2009-01-12T05:33:21Z</dcterms:modified>
  <cp:revision>473</cp:revision>
  <dc:subject/>
  <dc:title>MATLAB    جلسه او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